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1FB-13EF-4819-8DA9-11E3704C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190-B612-4B52-9C76-F1625542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FE0-347D-48DD-9322-193CBCFB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5B7-54FD-4A6C-995E-C4F8FEC7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DDA-E071-4C48-B5F6-AE19FE3B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166-B57B-4103-BF29-390E8722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0F3-EFCA-4ADF-A695-86CBF6D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F0C-7289-4AC3-B95A-9D2B582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520-191D-437B-AFB3-A3C0870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735-10E6-4BD5-92BD-0134F3FE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078-83F8-4EC7-A1EE-F9C0C8E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EB2-BC06-4E75-AC08-AA74FCED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D2E7-8857-44C3-9AFB-EA11A6CED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equalities Involving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76280" y="914400"/>
            <a:ext cx="8134200" cy="56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447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tate the solution in interval and set-builder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9T13:55:39Z</dcterms:modified>
  <cp:revision>7</cp:revision>
  <dc:subject/>
  <dc:title>Slide 1</dc:title>
</cp:coreProperties>
</file>